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8078-9960-4FA8-8DDF-2B472E1D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C00-07F4-458F-918D-2FD159554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8D73-6B9D-43F3-8E9C-2EB8BC1A88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eck online Standards under Student Technology Goals on Technology Professional Developmen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 nature of the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3775-7CDF-40B7-94DD-7C98684A9E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F9C-001D-4F7C-A7FE-ED7FC7B4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163-DA79-43E0-8C61-73BE4626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E55-73C6-4821-88D6-9211866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6B2-544F-426F-804D-16B4BD89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1C1C-00EF-4768-A25F-33549018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B41D-3FD0-4114-AA3F-33398C8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4901-3A7C-472D-B84B-D1FD12A6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4C4-B1E1-4774-B2B8-B217CB8B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1B2E-7468-48E9-8DFC-0E2D71E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784A-B6B1-4C1C-8C74-1DDA2A3E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046A-3A81-49B7-A8BE-54F07C98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D17-6E52-4C28-8749-52F0F6B0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19CB-BF5E-4609-BD47-D98B2B0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5CC6-7110-4464-A5AF-7BA1379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7E8F-DB1E-4A01-A876-ED22742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B7AA-FACC-405B-A0F0-04B01763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6516-C800-4E43-9BF2-EC1AAB3C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32ED-3D6E-40FD-BD11-CDF32243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417D-A21C-4A18-8C5F-25C87DE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9A96-22CA-4C8D-A4AC-0641CEC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9234-A073-4162-86EB-27C8B15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91B4-F474-4B6D-8FE1-9D9183D1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C03-7990-4885-BAE2-B563A4EA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CCEC-E6FD-47BF-9897-A746D82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4E60-76D0-446B-B691-F34D213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C75A-D329-42AB-874B-0D46B6E7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475E-4622-4312-95A0-401EE60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2387-7131-4864-93D4-1E1F1F5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D893-D07A-4083-9424-CE03BF1E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579A-6608-4B42-A35D-DB2E5AE9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267E0-133C-4D3A-BE8E-11833CFB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C2EE-D4D8-4BF4-88AE-8B5A7C46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8C677-D25A-4501-8F5C-322D55A0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4CF-4C15-4ED7-AED3-7F2712A5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084E-C5A1-4D5E-9A37-B021EFEF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28B1-86A9-41D7-9858-0557C27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EA7F-B8C7-4B96-8FF1-6CAB6266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9C00-4F24-41DF-9B9C-95CE5EA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428B-02DD-4F0C-B9DA-6E8F963A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1B85-750B-49AA-88E4-789A165E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E1EE-3D1C-42E9-9EF3-7FE616F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BDB5-224A-4FC8-A3F7-1D524E4E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DAA9-2224-468A-B8FD-B180F440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5D0B-08DA-4ABC-B311-12927EFB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E6D-43CB-4A00-B4F9-EC52886D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A2503-58A3-434D-B232-9B40ABCC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71AC-D7E1-4667-A905-C56DDD1B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A523-8251-4349-9120-B66516EA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36B8-D443-4A7A-9B12-41D3F695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5CCD5-1D63-402F-B0A8-98CE4489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DB7A-2867-45FD-AC28-239325E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64F6-A15D-41A3-81A6-434DD29F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E2FE-D7F5-404C-B10A-CB9AEAD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0E9E-3CBD-479D-9159-5F7EDA73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C2155-2D74-46C9-9D33-32E0EF5B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BF0-4891-4C52-837A-D4157B37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2C161-1200-488A-8580-84BB9A64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28410-9833-49FB-98CD-0A504235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1C50F-BB89-4790-9158-90EC2EE9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09364-FB45-4529-B4E6-8EF2E36A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EE097-E73F-4603-8656-69BA4A9C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84849-DD2A-4C38-94CF-E9AB0D6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AC760-499D-4C86-B34F-EE0757D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E137B-78BF-4898-BE6A-128E6AD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3B073-8950-44CE-B982-E3720C6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60734-EDDB-44EF-8F9C-1413C33D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A50-A7D3-4184-B61E-12AFF57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F6295-7AD8-4577-8319-DE5CF469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37D56-DB2A-4A05-9609-D79E1D82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31FDA-D5A1-4F3E-9381-101891BC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987-2373-486A-BDC0-F1FC9B1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EE9-FE6A-4291-BDCD-4D2CB94A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3EAB-8D3D-47F8-B207-A75A7F0C4A90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6DDE-2DA8-4DF9-8185-4F848DC12FB3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C36E-F1F0-4660-8FA6-D5F45D57F9E0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FB8-F3EB-4852-823D-FF4DC63B71E0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652-6B2A-4294-8FFE-5FC00C69A329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22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22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1E1-42B2-44E7-9B29-0510F3074A31}" type="slidenum">
              <a:rPr b="0" lang="en-US" sz="1400" spc="-1" strike="noStrike">
                <a:solidFill>
                  <a:srgbClr val="bcb7a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Quotes"/>
          <p:cNvPicPr/>
          <p:nvPr/>
        </p:nvPicPr>
        <p:blipFill>
          <a:blip r:embed="rId1"/>
          <a:stretch/>
        </p:blipFill>
        <p:spPr>
          <a:xfrm>
            <a:off x="190440" y="1523880"/>
            <a:ext cx="8724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-115920" y="530280"/>
            <a:ext cx="8583480" cy="957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685800" y="208584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our Subject Matter and Your Content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295280" y="4800600"/>
            <a:ext cx="510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/Adapt/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3505320" y="2438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6781680" y="2819520"/>
            <a:ext cx="1905120" cy="32763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638280 h 3276360"/>
              <a:gd name="textAreaBottom" fmla="*/ 235152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2867459"/>
                <a:lnTo>
                  <a:pt x="7200" y="21118"/>
                </a:lnTo>
                <a:lnTo>
                  <a:pt x="0" y="18276"/>
                </a:lnTo>
                <a:lnTo>
                  <a:pt x="7200" y="14469"/>
                </a:lnTo>
                <a:lnTo>
                  <a:pt x="7200" y="16357"/>
                </a:lnTo>
                <a:arcTo wR="21600" hR="8420" stAng="2867459" swAng="-2635782"/>
                <a:lnTo>
                  <a:pt x="21283" y="9856"/>
                </a:lnTo>
                <a:arcTo wR="21600" hR="8420" stAng="-231677" swAng="-5168323"/>
                <a:close/>
              </a:path>
              <a:path fill="darkenLess"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-231677"/>
                <a:lnTo>
                  <a:pt x="21283" y="9856"/>
                </a:lnTo>
                <a:arcTo wR="21600" hR="8420" stAng="-231677" swAng="-5168323"/>
                <a:close/>
              </a:path>
            </a:pathLst>
          </a:custGeom>
          <a:solidFill>
            <a:srgbClr val="cc47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4267080" y="2085840"/>
            <a:ext cx="289584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National Educational Technology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533520" y="1828800"/>
            <a:ext cx="6629400" cy="243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71360" y="165240"/>
            <a:ext cx="8521920" cy="2376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2895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use of technology makes se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ffectivenes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nd/or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fficiency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of instruction is increas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8609040" cy="35607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00040" y="156060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65040" y="835200"/>
            <a:ext cx="8102520" cy="1182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ult standar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our core curricular standar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ET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lan a less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ek help – if nee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ach the less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valuate effectiveness of meeting curricular standards and technology integr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tivities Prior to the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tivities While at the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Job Aids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tivities After the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pporting Activ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onge Activities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sess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are one lesson you found and explain what you like about i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ich NETS does it addres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109440" y="2584440"/>
            <a:ext cx="8632800" cy="23655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00040" y="156060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eb. 12, 2007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:35 – 5:00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0720" y="273672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Approach for Integrating Te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me Ide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me to Search, Adapt, and Desig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me to Sha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577360" cy="9572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685800" y="208584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our Subject Matter and Your Content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1295280" y="4800600"/>
            <a:ext cx="510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/Adapt/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3505320" y="2438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6781680" y="2819520"/>
            <a:ext cx="1905120" cy="32763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638280 h 3276360"/>
              <a:gd name="textAreaBottom" fmla="*/ 235152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2867459"/>
                <a:lnTo>
                  <a:pt x="7200" y="21118"/>
                </a:lnTo>
                <a:lnTo>
                  <a:pt x="0" y="18276"/>
                </a:lnTo>
                <a:lnTo>
                  <a:pt x="7200" y="14469"/>
                </a:lnTo>
                <a:lnTo>
                  <a:pt x="7200" y="16357"/>
                </a:lnTo>
                <a:arcTo wR="21600" hR="8420" stAng="2867459" swAng="-2635782"/>
                <a:lnTo>
                  <a:pt x="21283" y="9856"/>
                </a:lnTo>
                <a:arcTo wR="21600" hR="8420" stAng="-231677" swAng="-5168323"/>
                <a:close/>
              </a:path>
              <a:path fill="darkenLess" w="21600" h="21600">
                <a:moveTo>
                  <a:pt x="0" y="0"/>
                </a:moveTo>
                <a:arcTo wR="21600" hR="8420" stAng="-5400000" swAng="5400000"/>
                <a:lnTo>
                  <a:pt x="21600" y="11293"/>
                </a:lnTo>
                <a:arcTo wR="21600" hR="8420" stAng="0" swAng="-231677"/>
                <a:lnTo>
                  <a:pt x="21283" y="9856"/>
                </a:lnTo>
                <a:arcTo wR="21600" hR="8420" stAng="-231677" swAng="-5168323"/>
                <a:close/>
              </a:path>
            </a:pathLst>
          </a:custGeom>
          <a:solidFill>
            <a:srgbClr val="cc47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267080" y="2085840"/>
            <a:ext cx="289584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National Educational Technology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533520" y="1828800"/>
            <a:ext cx="6629400" cy="243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450720" y="1749600"/>
            <a:ext cx="82425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353880" y="420840"/>
            <a:ext cx="8704440" cy="1536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9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NETS have been developed for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uden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acher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dministrator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3" descr=""/>
          <p:cNvPicPr/>
          <p:nvPr/>
        </p:nvPicPr>
        <p:blipFill>
          <a:blip r:embed="rId1"/>
          <a:stretch/>
        </p:blipFill>
        <p:spPr>
          <a:xfrm>
            <a:off x="365040" y="987480"/>
            <a:ext cx="8102520" cy="877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2052360"/>
            <a:ext cx="79884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technology skills should be woven into the curricular fabric of our schools . .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such skills should be taught . .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OW technology can support learning . . .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5029200" y="3984480"/>
            <a:ext cx="36511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01760" y="957240"/>
            <a:ext cx="8345520" cy="12794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6840" y="3132000"/>
            <a:ext cx="4033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PreK–1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2–4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5–8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rades 9–12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2"/>
          <a:stretch/>
        </p:blipFill>
        <p:spPr>
          <a:xfrm>
            <a:off x="4648320" y="2563920"/>
            <a:ext cx="40384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sic Operations &amp; Concepts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cial, Ethical, &amp; Human Issues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Productivity Tool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Communication Too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Research Tool 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5320" indent="-62532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ech as a Problem-Solving &amp; Decision Making Too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4:03:31Z</dcterms:created>
  <dc:creator>DVan</dc:creator>
  <dc:description/>
  <dc:language>en-US</dc:language>
  <cp:lastModifiedBy>helen</cp:lastModifiedBy>
  <dcterms:modified xsi:type="dcterms:W3CDTF">2010-07-21T13:38:58Z</dcterms:modified>
  <cp:revision>19</cp:revision>
  <dc:subject/>
  <dc:title>Finding Tech Integrating Lessons </dc:title>
</cp:coreProperties>
</file>